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501-A48C-4042-8E5E-E31040DA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011-9028-4905-A27C-5531C200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914-0691-463E-AE5C-2FF73ED5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94F-1AA6-4A90-8048-2B924865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7CF0-1793-42BE-A4B9-C4522BEF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62A-82E1-4150-BD29-C14ED72C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6EAC-A22E-4F9B-ACA6-735BBBA6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C03C-63F2-4E39-83C5-EDE04CD8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11CA-FFEE-4453-B0E1-98666E3A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316A-9CF2-4371-91B0-E4DA475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DBB6-682C-4B5D-93B3-1D7F4EAC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A17-0A41-412C-BE49-FAEEAE22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D5F9-69F4-483A-A4AC-3D094213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298C-8EC7-4B8B-9F61-74FB0B54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17AD-F929-476A-BB45-71FB7D88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8FD5-A132-498A-8372-074D34E4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1B79-029C-4660-ACB3-00EAE1D3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F26C-3723-4BF5-9115-83BBF201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8196-6EB4-41C7-A4E8-CD2772BF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ADFD-25F2-464E-947B-554560BA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6980-8761-4F22-9170-1E81A45A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251C-5747-47F1-BBDD-F47AFC13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EF4-9AC6-4420-BB42-40AFB763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C88C-7E9F-439B-99DB-9FB3FF34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025D-6B97-4BCA-9FFE-F61A6D1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8DB82-3616-4CC6-99FC-CC63FE57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23F7-77A5-4D96-A36D-F3C4D3A6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9A79-ADC3-418B-BC27-1ABEEF25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511D-185E-4CC4-B640-07CFA6DC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7A94-59EF-4C3C-ACA9-E16AB73C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6D5F-504A-4A1F-BDD0-1DB263FD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4024-5053-4373-86F8-5C11E3BC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78C4-BBCB-4916-98DB-2AA19F0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6DC-52E4-409B-8394-9279AA90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453AE-9EA0-4DAE-92D9-156F9F27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0090F-A2D1-4D67-9918-193E8F83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7A9A-22CE-4E8C-9E86-02CB0BA8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9360-B8D9-4F87-9445-FDB6DA91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A8A05-817E-4483-92A8-D3260BF9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F526-BDE5-448B-BE4A-C7BE7BD3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A78A-E987-48A2-ACA9-35818960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FF70-E390-4477-A805-1B0C9D6B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34A6-0D37-4A93-B7B2-5E1B66DF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ED52-8F2E-4614-80BC-9637B200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71E-490A-47A3-AA13-6CA5A033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9B978-1445-4EE0-9EAF-EC439D8D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74D3B-3784-4E71-9043-9531018E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B0CFF-3843-41CA-AF75-07FFACB9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6155-2182-4BF9-B97A-486146A4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3F88B-6289-454A-9BC7-ACEFBD2E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43E84-B778-4699-A716-C0F04F4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3AA3-CCFC-49E2-B771-0EE8EB2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6AC0D-8DCD-4F17-B378-246CC062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F1B0F-7A7F-4DFF-A268-9A4EC200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B848D-7A23-492D-89BA-E6D38C2D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1B1-8F0F-4F3D-B4ED-FFAB910B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EC551-B127-463D-A37D-9AD4C083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638-7E9F-4DDC-833C-6E8CC057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BF4-4C62-46AF-B988-C9CCAA1D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FA5-DB9E-4F3B-88F5-7B809B5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76A4-8FC6-4B40-8505-D533DB70C3B2}" type="slidenum">
              <a:rPr b="0" lang="ro-RO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0747-DFC5-4532-945F-00BEEC44CA1B}" type="slidenum">
              <a:rPr b="0" lang="ro-RO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891-DF02-489D-9849-C33907D3F6FA}" type="slidenum">
              <a:rPr b="0" lang="ro-RO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Perpet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828E-1DA1-4898-8F6F-BAD45F461CA7}" type="slidenum">
              <a:rPr b="0" lang="ro-RO" sz="11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DA5E-2F27-4F4D-B4C2-03C6EA197934}" type="slidenum">
              <a:rPr b="0" lang="ro-RO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u 1" descr=""/>
          <p:cNvPicPr/>
          <p:nvPr/>
        </p:nvPicPr>
        <p:blipFill>
          <a:blip r:embed="rId1"/>
          <a:stretch/>
        </p:blipFill>
        <p:spPr>
          <a:xfrm>
            <a:off x="2981160" y="530280"/>
            <a:ext cx="59976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Perpetua"/>
              </a:rPr>
              <a:t>Aplicatia Sanako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271520" y="1935000"/>
            <a:ext cx="59580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357200" y="1285920"/>
            <a:ext cx="6058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1571760" y="1643040"/>
            <a:ext cx="53910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047600" y="1609560"/>
            <a:ext cx="6058080" cy="4846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u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485200" cy="1150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047600" y="1609560"/>
            <a:ext cx="6058080" cy="4846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0" y="642960"/>
            <a:ext cx="5334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857240" y="1828800"/>
            <a:ext cx="5572440" cy="4457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00040" y="642960"/>
            <a:ext cx="50245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0" y="1571760"/>
            <a:ext cx="6058080" cy="484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3429000" y="1571760"/>
            <a:ext cx="60483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u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047600" y="1609560"/>
            <a:ext cx="6058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9:40:53Z</dcterms:created>
  <dc:creator>admin2</dc:creator>
  <dc:description/>
  <dc:language>en-US</dc:language>
  <cp:lastModifiedBy>Win7</cp:lastModifiedBy>
  <dcterms:modified xsi:type="dcterms:W3CDTF">2012-06-28T09:23:53Z</dcterms:modified>
  <cp:revision>7</cp:revision>
  <dc:subject/>
  <dc:title>Diapozitivul 1</dc:title>
</cp:coreProperties>
</file>